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3FF-869B-4E68-ABF2-8F19D9A6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499-197C-4725-BE07-E5429503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DB8-2683-45F2-814A-05284769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130-48F6-44FF-93FB-13981106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306F-B2ED-4B3F-A984-61B409F1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B828-ECC0-489A-AF28-B06A4FEC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260E-3551-42F1-A7EB-0A01BC46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416E-DE3B-418E-B0AB-DB04607B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5408-34AC-4A21-9238-354673AE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9E36-0062-4D24-8FCA-C977AF0C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26C2-124D-498B-9EC8-0C525516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B3A-6979-4E9B-96DC-622441A4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6CB3-56D3-4D11-84A9-160B382F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E906-B2D8-4450-A944-5CC84DC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E935-344F-42D3-A305-DC0D57A2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50A0-A07B-497D-A248-41D07632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9F91-855A-4FB1-8AD1-8B8B5F0C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F20-3B1C-4809-9EE2-D2050689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2D6-262A-4736-9DB6-B8FF050B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0B8-7984-4A25-8036-11639D1E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899-3521-425B-B600-A0DF7B2B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020-1393-4919-9B5F-27EF1BC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F2C-771B-4F06-B44D-631B50C3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E9F-BF29-457A-8C25-2287A7BC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6681-E41F-412F-BF34-F3FBEA44F99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26DB-4EB5-472D-A681-B6CD1BF02B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77560"/>
            <a:ext cx="762012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6666"/>
                </a:solidFill>
                <a:latin typeface="Arial"/>
              </a:rPr>
              <a:t>Презентація з української мови ”Складне речення. Складносурядне речення”</a:t>
            </a:r>
            <a:br>
              <a:rPr sz="2700"/>
            </a:br>
            <a:r>
              <a:rPr b="1" lang="uk-UA" sz="2700" spc="-1" strike="noStrike">
                <a:solidFill>
                  <a:srgbClr val="006666"/>
                </a:solidFill>
                <a:latin typeface="Arial"/>
              </a:rPr>
              <a:t> (9 клас)</a:t>
            </a:r>
            <a:br>
              <a:rPr sz="2700"/>
            </a:b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58920" y="2381040"/>
            <a:ext cx="652464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підготувала Губська Ольга Володимирівна, вчитель української мови та літератури  Валківського ліцею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ім. О.Масельського Валківської районної ради Харківської області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мислові відношення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Єднальні  сполучники передаю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одночасність дій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І серцю дано не бідніти, і думам не дано всиха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ослідовність дій, станів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Достигла нива колосиста, і зріють яблука в саду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ричиново-наслідкову залежність між діями та станами: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Бджоли одлітались, і дід із онуком заносять вулики в ольшани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ерелік дій, явищ: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 І наперед не треба ворожити, і за минулим плакати не вар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мислові віднош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ротиставні сполучники передаю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ротиставлення дій, явищ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Все повертається, але роки йдуть без воротт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іставлення дій, явищ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На столі з-під рушника виглядає хліб, а поряд темніє пучок польових волошо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мислові віднош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Розділові сполучники передаю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чергування явищ, дій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То сонце вигляне, то знову хмар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взаємовиключення явищ, дій: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Чи то праця задавила молоду силу, чи то нудьга невсипуща його з ніг звалил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СР і синонімічні конструкції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прості неускладнені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просте ускладнене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кладносурядне (інше)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кладнопідрядне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безсполучникове складне речення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рості неускладнені реч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46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На Україну подивлюсь. Любо серце одпочине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росте ускладнене реч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46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Дивлячись на Україну, серце у поета любо одпочиває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Складносурядні (інші) реченн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та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Складнопідрядні речення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Коли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на Україну подивлюся,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Як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на Україну подивлюся, тоді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66"/>
                </a:solidFill>
                <a:latin typeface="Arial"/>
              </a:rPr>
              <a:t>Безсполучникове складне речення</a:t>
            </a:r>
            <a:br>
              <a:rPr sz="3000"/>
            </a:b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41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На Україну подивлюсь  -  любо серце одпочине (Т.Шевченко)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кладне речення і його ознаки</a:t>
            </a:r>
            <a:br>
              <a:rPr sz="38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єднання за змістом 2 і більше простих речень;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смисловий зв’язок;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граматичний зв’язок;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інтонаційна завершеність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Види складного речення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сполучникове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кладнопідрядне;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кладносурядне;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безсполучникове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Засоби зв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язку у складному реченні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сполучниковий: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сполучники </a:t>
            </a: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сурядності:</a:t>
            </a: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і(й), та(і; але), а, але, проте, зате, або, чи, то, хоч, причому, також, не тільки, а й;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сполучники </a:t>
            </a: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підрядності:</a:t>
            </a: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бо, що, щоб, як, ніби, завдяки тому що, перед тим, що, коли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кладносурядне речення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граматично незалежні частини пов’язані за змістом, сполучниками сурядності й інтонацією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частини можуть бути двоскладними й односкладними, поширеними і непоширеними, повними і неповними, ускладненими і неускладненим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Засоби зв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язку у ССР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мисловий;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получниковий;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інтонаційний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получники сурядності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єднальні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і(й), та(і), і…і, ні… ні, як… так і, ще й, не тільки… а й, не лише… а й, також, причому, притому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получники сурядності</a:t>
            </a:r>
            <a:br>
              <a:rPr sz="32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протиставні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а, але, та(але), однак, проте, зат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получники сурядності</a:t>
            </a:r>
            <a:br>
              <a:rPr sz="32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розділові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або, чи, або… або, чи… чи, то… то, хоч… хоч, чи то…чи то, не то… не то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08T18:14:2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