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1943-E912-4CEB-B1EA-E489469D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97E5-B70A-41E0-AD0A-069CD075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4AE4-D3ED-41B4-B4EC-8E56E827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694-D4F4-4A44-BAE5-0B0BD7E2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4402-7DD6-4F6A-A705-B3572DE6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A5D0-ABF7-4725-8E2A-AF2E1A47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BBA4-2C34-416F-9ED2-FE5D5094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30DD-4827-4134-8716-54EF11F8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7F83-FC36-47A8-9B2E-A569E973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DD26-EE4C-4AD2-BD35-AAFB3055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C1FE-F043-4134-81A4-0A6C62F4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CE2-F32E-46D2-AB72-12B6BDEF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9BFE-E8F5-40F7-BDB3-1976D7FB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3F63-6B54-452E-B3BE-327EBEFC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A3B0-7E86-4A83-A71C-DA510E30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114E-DAA9-47D4-A74A-3CE35CF0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5E76-9E21-4E70-A1D9-34AA9D77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E879-1E7A-4980-AF82-61F85DA8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9BF4-1AE9-48F7-B2B9-7F4337D2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93E-4908-4BD8-94CB-3F58E6AA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5BBA-A33F-4D68-99FD-AD5731A5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33E4-94C1-4125-A270-FA06DB2F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E658-B982-46BB-8B43-DB41184C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9BD7-2648-4257-9243-8149FFBE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81C5-3B01-40D0-999D-E6299BBB92B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4BA1-C746-44C9-B6AA-2BD478847EE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277560"/>
            <a:ext cx="762012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006666"/>
                </a:solidFill>
                <a:latin typeface="Arial"/>
              </a:rPr>
              <a:t>Презентація з української мови ”Складне речення. Складносурядне речення”</a:t>
            </a:r>
            <a:br>
              <a:rPr sz="2700"/>
            </a:br>
            <a:r>
              <a:rPr b="1" lang="uk-UA" sz="2700" spc="-1" strike="noStrike">
                <a:solidFill>
                  <a:srgbClr val="006666"/>
                </a:solidFill>
                <a:latin typeface="Arial"/>
              </a:rPr>
              <a:t> (9 клас)</a:t>
            </a:r>
            <a:br>
              <a:rPr sz="2700"/>
            </a:b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58920" y="2381040"/>
            <a:ext cx="652464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підготувала Губська Ольга Володимирівна, вчитель української мови та літератури  Валківського ліцею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ім. О.Масельського Валківської районної ради Харківської області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Смислові відношення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Єднальні  сполучники передаю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одночасність дій: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І серцю дано не бідніти, і думам не дано всихать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послідовність дій, станів: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Достигла нива колосиста, і зріють яблука в саду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причиново-наслідкову залежність між діями та станами: 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Бджоли одлітались, і дід із онуком заносять вулики в ольшаник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перелік дій, явищ: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 І наперед не треба ворожити, і за минулим плакати не варт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Смислові відноше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Протиставні сполучники передаю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протиставлення дій, явищ: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Все повертається, але роки йдуть без воротт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іставлення дій, явищ: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На столі з-під рушника виглядає хліб, а поряд темніє пучок польових волошок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Смислові відноше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Розділові сполучники передаю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чергування явищ, дій: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То сонце вигляне, то знову хмар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взаємовиключення явищ, дій: 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Чи то праця задавила молоду силу, чи то нудьга невсипуща його з ніг звалил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СР і синонімічні конструкції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прості неускладнені речення;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просте ускладнене речення;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складносурядне (інше) речення;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складнопідрядне речення;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безсполучникове складне речення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рості неускладнені рече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600" spc="-1" strike="noStrike">
                <a:solidFill>
                  <a:srgbClr val="000000"/>
                </a:solidFill>
                <a:latin typeface="Verdana"/>
              </a:rPr>
              <a:t>На Україну подивлюсь  -  </a:t>
            </a:r>
            <a:r>
              <a:rPr b="1" i="1" lang="uk-UA" sz="46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0" i="1" lang="uk-UA" sz="46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600" spc="-1" strike="noStrike">
                <a:solidFill>
                  <a:srgbClr val="000000"/>
                </a:solidFill>
                <a:latin typeface="Verdana"/>
              </a:rPr>
              <a:t>На Україну подивлюсь. Любо серце одпочине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росте ускладнене рече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600" spc="-1" strike="noStrike">
                <a:solidFill>
                  <a:srgbClr val="000000"/>
                </a:solidFill>
                <a:latin typeface="Verdana"/>
              </a:rPr>
              <a:t>На Україну подивлюсь  -  </a:t>
            </a:r>
            <a:r>
              <a:rPr b="1" i="1" lang="uk-UA" sz="46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0" i="1" lang="uk-UA" sz="46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600" spc="-1" strike="noStrike">
                <a:solidFill>
                  <a:srgbClr val="000000"/>
                </a:solidFill>
                <a:latin typeface="Verdana"/>
              </a:rPr>
              <a:t>Дивлячись на Україну, серце у поета любо одпочиває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Складносурядні (інші) реченн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На Україну подивлюсь  -  </a:t>
            </a:r>
            <a:r>
              <a:rPr b="1" i="1" lang="uk-UA" sz="37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На Україну подивлюсь  -  </a:t>
            </a:r>
            <a:r>
              <a:rPr b="1" i="1" lang="uk-UA" sz="37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На Україну подивлюсь  -  </a:t>
            </a:r>
            <a:r>
              <a:rPr b="1" i="1" lang="uk-UA" sz="3700" spc="-1" strike="noStrike">
                <a:solidFill>
                  <a:srgbClr val="000000"/>
                </a:solidFill>
                <a:latin typeface="Verdana"/>
              </a:rPr>
              <a:t>та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Складнопідрядні речення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На Україну подивлюсь  -  </a:t>
            </a:r>
            <a:r>
              <a:rPr b="1" i="1" lang="uk-UA" sz="37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700" spc="-1" strike="noStrike">
                <a:solidFill>
                  <a:srgbClr val="000000"/>
                </a:solidFill>
                <a:latin typeface="Verdana"/>
              </a:rPr>
              <a:t>Коли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 на Україну подивлюся, </a:t>
            </a:r>
            <a:r>
              <a:rPr b="1" i="1" lang="uk-UA" sz="3700" spc="-1" strike="noStrike">
                <a:solidFill>
                  <a:srgbClr val="000000"/>
                </a:solidFill>
                <a:latin typeface="Verdana"/>
              </a:rPr>
              <a:t>то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700" spc="-1" strike="noStrike">
                <a:solidFill>
                  <a:srgbClr val="000000"/>
                </a:solidFill>
                <a:latin typeface="Verdana"/>
              </a:rPr>
              <a:t>Як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 на Україну подивлюся, тоді любо серце одпочине (Т.Шевченко)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6666"/>
                </a:solidFill>
                <a:latin typeface="Arial"/>
              </a:rPr>
              <a:t>Безсполучникове складне речення</a:t>
            </a:r>
            <a:br>
              <a:rPr sz="3000"/>
            </a:b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100" spc="-1" strike="noStrike">
                <a:solidFill>
                  <a:srgbClr val="000000"/>
                </a:solidFill>
                <a:latin typeface="Verdana"/>
              </a:rPr>
              <a:t>На Україну подивлюсь  -  </a:t>
            </a:r>
            <a:r>
              <a:rPr b="1" i="1" lang="uk-UA" sz="41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0" i="1" lang="uk-UA" sz="41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100" spc="-1" strike="noStrike">
                <a:solidFill>
                  <a:srgbClr val="000000"/>
                </a:solidFill>
                <a:latin typeface="Verdana"/>
              </a:rPr>
              <a:t>На Україну подивлюсь  -  любо серце одпочине (Т.Шевченко)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Складне речення і його ознаки</a:t>
            </a:r>
            <a:br>
              <a:rPr sz="3800"/>
            </a:b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Verdana"/>
              </a:rPr>
              <a:t>об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4100" spc="-1" strike="noStrike">
                <a:solidFill>
                  <a:srgbClr val="000000"/>
                </a:solidFill>
                <a:latin typeface="Verdana"/>
              </a:rPr>
              <a:t>єднання за змістом 2 і більше простих речень;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Verdana"/>
              </a:rPr>
              <a:t>смисловий зв’язок;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Verdana"/>
              </a:rPr>
              <a:t>граматичний зв’язок;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Verdana"/>
              </a:rPr>
              <a:t>інтонаційна завершеність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Види складного речення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Verdana"/>
              </a:rPr>
              <a:t>сполучникове: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Verdana"/>
              </a:rPr>
              <a:t>складнопідрядне;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Verdana"/>
              </a:rPr>
              <a:t>складносурядне;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Verdana"/>
              </a:rPr>
              <a:t>безсполучникове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Засоби зв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язку у складному реченні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ctr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000000"/>
                </a:solidFill>
                <a:latin typeface="Verdana"/>
              </a:rPr>
              <a:t>сполучниковий: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Verdana"/>
              </a:rPr>
              <a:t>сполучники </a:t>
            </a:r>
            <a:r>
              <a:rPr b="1" lang="uk-UA" sz="3700" spc="-1" strike="noStrike">
                <a:solidFill>
                  <a:srgbClr val="000000"/>
                </a:solidFill>
                <a:latin typeface="Verdana"/>
              </a:rPr>
              <a:t>сурядності:</a:t>
            </a:r>
            <a:r>
              <a:rPr b="0" lang="uk-UA" sz="3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і(й), та(і; але), а, але, проте, зате, або, чи, то, хоч, причому, також, не тільки, а й;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Verdana"/>
              </a:rPr>
              <a:t>сполучники </a:t>
            </a:r>
            <a:r>
              <a:rPr b="1" lang="uk-UA" sz="3700" spc="-1" strike="noStrike">
                <a:solidFill>
                  <a:srgbClr val="000000"/>
                </a:solidFill>
                <a:latin typeface="Verdana"/>
              </a:rPr>
              <a:t>підрядності:</a:t>
            </a:r>
            <a:r>
              <a:rPr b="0" lang="uk-UA" sz="3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бо, що, щоб, як, ніби, завдяки тому що, перед тим, що, коли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Складносурядне речення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граматично незалежні частини пов’язані за змістом, сполучниками сурядності й інтонацією;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частини можуть бути двоскладними й односкладними, поширеними і непоширеними, повними і неповними, ускладненими і неускладненими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Засоби зв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язку у ССР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4600" spc="-1" strike="noStrike">
                <a:solidFill>
                  <a:srgbClr val="000000"/>
                </a:solidFill>
                <a:latin typeface="Verdana"/>
              </a:rPr>
              <a:t>смисловий;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Verdana"/>
              </a:rPr>
              <a:t>сполучниковий;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Verdana"/>
              </a:rPr>
              <a:t>інтонаційний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Сполучники сурядності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Verdana"/>
              </a:rPr>
              <a:t>єднальні: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100" spc="-1" strike="noStrike">
                <a:solidFill>
                  <a:srgbClr val="000000"/>
                </a:solidFill>
                <a:latin typeface="Verdana"/>
              </a:rPr>
              <a:t>і(й), та(і), і…і, ні… ні, як… так і, ще й, не тільки… а й, не лише… а й, також, причому, притому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Сполучники сурядності</a:t>
            </a:r>
            <a:br>
              <a:rPr sz="3200"/>
            </a:b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Verdana"/>
              </a:rPr>
              <a:t>протиставні: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100" spc="-1" strike="noStrike">
                <a:solidFill>
                  <a:srgbClr val="000000"/>
                </a:solidFill>
                <a:latin typeface="Verdana"/>
              </a:rPr>
              <a:t>а, але, та(але), однак, проте, зате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Сполучники сурядності</a:t>
            </a:r>
            <a:br>
              <a:rPr sz="3200"/>
            </a:b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Verdana"/>
              </a:rPr>
              <a:t>розділові: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100" spc="-1" strike="noStrike">
                <a:solidFill>
                  <a:srgbClr val="000000"/>
                </a:solidFill>
                <a:latin typeface="Verdana"/>
              </a:rPr>
              <a:t>або, чи, або… або, чи… чи, то… то, хоч… хоч, чи то…чи то, не то… не то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1-08T18:14:2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