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A54-739B-4D37-9AA6-EAA52767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E6A-747B-428A-9216-18DBB2E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C5A-22D3-4E98-A6BF-A83A31AB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C21-DBF1-46D5-8199-DFC2F1DD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07C7-0828-4DEA-AA9F-B845BD8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CACC-070A-429D-B526-29A6AD54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0CB8-1463-4B1F-BB06-965C716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3F56-4C30-466D-AD02-22BB7664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6EC2-E5D7-47DC-8FA9-7256020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BC69-9128-4485-A406-6066B807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FF75-02C2-43C7-A89B-B3C515A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99F-6D26-4353-9255-D3771818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582D-2A9E-45C6-AB2D-656229B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A47-42D9-4EC8-934F-372994A1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790B-BC79-4360-9D4A-2E408E9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4587-3619-47CA-9F9B-18FE4557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DD5B-9EE2-4DAC-BFD4-CBE64885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8BD-18B8-435C-A3D1-372558C7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67B-D471-4F3D-9BC7-280144BA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86E-073B-4585-8ABF-5D4E293B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15A-0209-4ED1-B86E-B0BA2ED6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3AB-A12F-4658-B6ED-2DC948FC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D64-32DD-4384-B510-1C857A5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71B-8F1F-4B2F-B2F8-EC7D41D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22E-2683-4E14-844D-AFD31151B1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F97-B85A-447D-AE47-06368D9A5F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77560"/>
            <a:ext cx="76201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6666"/>
                </a:solidFill>
                <a:latin typeface="Arial"/>
              </a:rPr>
              <a:t>Презентація з української мови ”Складне речення. Складносурядне речення”</a:t>
            </a:r>
            <a:br>
              <a:rPr sz="2700"/>
            </a:br>
            <a:r>
              <a:rPr b="1" lang="uk-UA" sz="2700" spc="-1" strike="noStrike">
                <a:solidFill>
                  <a:srgbClr val="006666"/>
                </a:solidFill>
                <a:latin typeface="Arial"/>
              </a:rPr>
              <a:t> (9 клас)</a:t>
            </a:r>
            <a:br>
              <a:rPr sz="2700"/>
            </a:b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58920" y="2381040"/>
            <a:ext cx="65246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ідготувала Губська Ольга Володимирівна, вчитель української мови та літератури  Валківського ліцею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ім. О.Масельського Валківської районної ради Харківської області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Єднальні 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одночасність дій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І серцю дано не бідніти, і думам не дано всиха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ослідовність дій, станів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Достигла нива колосиста, і зріють яблука в саду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ичиново-наслідкову залежність між діями та станами: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Бджоли одлітались, і дід із онуком заносять вулики в ольшани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ерелік дій, явищ: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 І наперед не треба ворожити, і за минулим плакати не вар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отиставні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протиставлення дій, явищ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Все повертається, але роки йдуть без воротт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іставлення дій, явищ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На столі з-під рушника виглядає хліб, а поряд темніє пучок польових волошо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мислові віднош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Розділові сполучники передаю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чергування явищ, дій: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То сонце вигляне, то знову хмар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взаємовиключення явищ, дій: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Чи то праця задавила молоду силу, чи то нудьга невсипуща його з ніг звалил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СР і синонімічні конструкції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рості неускладнені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просте ускладнене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носурядне (інше)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нопідрядне речення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езсполучникове складне речення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сті неускладнені реч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. Любо серце одпочине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сте ускладнене рече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600" spc="-1" strike="noStrike">
                <a:solidFill>
                  <a:srgbClr val="000000"/>
                </a:solidFill>
                <a:latin typeface="Verdana"/>
              </a:rPr>
              <a:t>Дивлячись на Україну, серце у поета любо одпочиває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кладносурядні (інші) реченн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кладнопідрядні речення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Коли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на Україну подивлюся, </a:t>
            </a: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то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000000"/>
                </a:solidFill>
                <a:latin typeface="Verdana"/>
              </a:rPr>
              <a:t>Як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 на Україну подивлюся, тоді любо серце одпочине (Т.Шевченко)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6666"/>
                </a:solidFill>
                <a:latin typeface="Arial"/>
              </a:rPr>
              <a:t>Безсполучникове складне речення</a:t>
            </a:r>
            <a:br>
              <a:rPr sz="3000"/>
            </a:b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На Україну подивлюсь  -  </a:t>
            </a:r>
            <a:r>
              <a:rPr b="1" i="1" lang="uk-UA" sz="41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 любо серце одпочине (Т.Шевченко)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На Україну подивлюсь  -  любо серце одпочине (Т.Шевченко)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кладне речення і його ознаки</a:t>
            </a:r>
            <a:br>
              <a:rPr sz="38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об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єднання за змістом 2 і більше простих речень;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смисловий зв’язок;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граматичний зв’язок;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Verdana"/>
              </a:rPr>
              <a:t>інтонаційна завершеність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Види складного речення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сполучникове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кладнопідрядне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кладносурядне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безсполучникове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Засоби зв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язку у складному реченні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получниковий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сполучники </a:t>
            </a: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урядності:</a:t>
            </a: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і(й), та(і; але), а, але, проте, зате, або, чи, то, хоч, причому, також, не тільки, а й;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сполучники </a:t>
            </a: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підрядності:</a:t>
            </a:r>
            <a:r>
              <a:rPr b="0" lang="uk-UA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3700" spc="-1" strike="noStrike">
                <a:solidFill>
                  <a:srgbClr val="000000"/>
                </a:solidFill>
                <a:latin typeface="Verdana"/>
              </a:rPr>
              <a:t>бо, що, щоб, як, ніби, завдяки тому що, перед тим, що, коли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кладносурядне речення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граматично незалежні частини пов’язані за змістом, сполучниками сурядності й інтонацією;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частини можуть бути двоскладними й односкладними, поширеними і непоширеними, повними і неповними, ускладненими і неускладненим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Засоби зв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язку у ССР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мисловий;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сполучниковий;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Verdana"/>
              </a:rPr>
              <a:t>інтонаційний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єднальн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і(й), та(і), і…і, ні… ні, як… так і, ще й, не тільки… а й, не лише… а й, також, причому, притому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br>
              <a:rPr sz="32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протиставн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а, але, та(але), однак, проте, зат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6666"/>
                </a:solidFill>
                <a:latin typeface="Arial"/>
              </a:rPr>
              <a:t>Сполучники сурядності</a:t>
            </a:r>
            <a:br>
              <a:rPr sz="3200"/>
            </a:br>
            <a:endParaRPr b="0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Verdana"/>
              </a:rPr>
              <a:t>розділові: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000000"/>
                </a:solidFill>
                <a:latin typeface="Verdana"/>
              </a:rPr>
              <a:t>або, чи, або… або, чи… чи, то… то, хоч… хоч, чи то…чи то, не то… не то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8T18:14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